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94F-7D85-449B-A871-06E6F426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8D3-49F5-407D-8E7B-EAA8A861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808-197C-4744-AAC7-D48CBF43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560-F84D-41A7-9335-8D35CFB2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AC6C-1310-4648-908A-46407083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4963-C7EF-4CBD-9336-BBADAE30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4A7A-204A-4A40-AAE5-1EC7A648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7FC9-BEA9-464E-ADF3-B9310B9C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2B23-3FEA-4DF3-A20A-BF931E80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BE3A-58B8-4B0D-A023-00BCC364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6636-12BA-431F-A8EC-B22C472E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F16-D6AF-4163-8A0E-6FD1ACBD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8AE1-6B3A-43D3-9E16-87756C9D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8B9B-0EA9-4769-9374-C739D057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5813-CC12-4CA4-A2DE-D885084C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FC4E-077C-45F9-92E3-78D7365E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455D-49A7-4020-A984-D24B3206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5B9-582A-42E1-A6CC-A7A3CEB2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305-BBED-45BE-8483-4BB3CEA3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B97-142D-406A-A0D0-0D7C61AC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CDE-A65C-48B3-B850-EA25AC51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881-0B7E-4DDD-AA74-FC623B44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BDB-D3B5-4D8D-B044-3B89241D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125-AF30-4687-827C-07B08BD3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2095-EFB5-4F4A-85A3-783943FB5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347D-3286-41FD-8DE2-CAD10EE492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Les Verbes Pronominaux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________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Je me ren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à l’école. = Je vais à l’éco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u te me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ravailler. = Tu commences à travaill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us nous souvenons 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tre vogage en Fr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l se moqu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ujours de moi!  :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oici quelques verbes pronominaux idiomatiqu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’agir de (“il”)  to be ab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’attendre à  to exp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demander  to wo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douter de   to susp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’en aller  to go a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mettre en colère  to get ang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mettre en route  to start ou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passer  to happ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passer de  to do with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rendre compte   to real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servir de  to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irer d’affaire  to get along, to manage  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hrase déclarative affirm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épêches aujourd’h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ou are in a hurry tod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hrase déclarative nég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 n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épêches pas aujourd’h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ou are not in a hurry tod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: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hrase interrogative affirm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épêches-tu aujourd’hu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re you in a hurry to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rase interrogative négativ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épêches-tu pas aujourd’hu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ren’t you in a hurry to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Note que le pronom réfléchi reste directement devant le verbe.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ommande affirm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épêche-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o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ujourd’hui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urry up today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épêche pas aujourd’hui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on’t hurry today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vec la phrase impérative affirmative, le pronom réfléchi attache à la fin du verbe et le </a:t>
            </a:r>
            <a:r>
              <a:rPr b="0" i="1" lang="fr-FR" sz="3200" spc="-1" strike="noStrike" u="sng">
                <a:solidFill>
                  <a:srgbClr val="ffffff"/>
                </a:solidFill>
                <a:uFillTx/>
                <a:latin typeface="Tahoma"/>
              </a:rPr>
              <a:t>te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change à </a:t>
            </a:r>
            <a:r>
              <a:rPr b="0" i="1" lang="fr-FR" sz="3200" spc="-1" strike="noStrike" u="sng">
                <a:solidFill>
                  <a:srgbClr val="ffffff"/>
                </a:solidFill>
                <a:uFillTx/>
                <a:latin typeface="Tahoma"/>
              </a:rPr>
              <a:t>toi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.   :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Infiniti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’ador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repos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s n’aimons pas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épêch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 est difficile d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tai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 classe.  :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u passé composé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ur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s verbes pronominaux, l’auxiliaire est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êt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 verb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éfléch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éciproqu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n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’acco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u participe passé avec l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omplément d’objet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rect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écéden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 verb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diomatiqu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nt l’accord avec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e suj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: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lessé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verbs use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êt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 auxilia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est blessée. (Anne hurt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hersel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herself)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est blessé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flex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ciproc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erbs make agreement with a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eceding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o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: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in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éveillé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à 6h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vé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ut de su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nt de s’habiller, el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avé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t el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rossé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 den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is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à descendre mais el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rêté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ce que le téléphone a sonné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’était son amie Michel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 deux fill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n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lé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endant 10 minutes.  Après ce coup de téléphone, Janine a dû 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épêcher.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onnez une phrase équivalente en français avec un verbe pronomin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Je mets mes vête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 m’habil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Comment vont-il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ent se sentent-il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 Nous sortons du lit vers sept heures du mat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us nous levons vers sept heures du mat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Nice est dans le Mid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ce se trouve dans le Mid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Allez au lit, mes enfant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chez-vous, mes enfants!  :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haque verbe transitif peut transformer dans un verbe pronominal (Un verbe transitif est un qui utilise un objet direc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z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regard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a phot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(I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l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garde.) He looks at the photo, at i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regarde. He looks 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im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promèn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e chi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 She walk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he do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mène.  She takes a walk.  (She walks herself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mère habille sa fille. The mother dress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er daugh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mère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 habille. The mother gets dressed. (She dress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er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 flic arrête la voiture. The cop stops the c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voiture s’arrête.  The car stops (itself).  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tilisant l’inversion, demandez à Mme. Bell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comment elle se porte aujourd’hu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ame, comment vous portez-vous aujourd’hu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si elle s’amu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ame, vous amusez-vou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 quand elle se lè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ame, quand vous levez-vou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pourquoi elle se dépêch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ame, pourquoi vous dépêchez-vou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 si elle sait où se trouve la bibliothè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ame, savez-vous où se trouve la bibliothèque?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mandez à un(e) ami(e) de faire les choses suivante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Se lever de bonne he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ève-toi de bonne he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Se laver tout de su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ve-toi tout de su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 S’habiller v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bille-toi v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Ne pas se dépêc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 te dépêche p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 Ne pas se maquiller en clas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 te maquille pas en classe.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épondez à chaque question par une phrase complète en françai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 Vous lavez-vous tous les jours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 Comment s’appelle ta cousine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 Allons-nous nous amuser demain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.  Dans quelle ville se trouve le Louvre et le Sacré-Cœur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.  À quelle heure te couches-tu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.  Où est-ce que je peux m’asseoir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.  Vous habillez-vous généralement le matin où le soir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.  Se lève-t-on ou s’assied-on quand on entend l’hymne national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. Où vous trouvez-vous maintenant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.  Que faites-vous quand vous êtes fatigué(e)?  :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7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7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2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efaites ces phrases au passé composé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 Elle se fâche à l’écol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 Ils se blessent au match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 Nous nous brossons les cheveux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.  Elle mange une pomm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.  La mère se maquille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.  Ils s’endorme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.  Elles s’écrivent des lettr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.  Elle s’admire dans la gla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.  Ils se téléphone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.  Elle se souvient de la fêt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.  Elles se mettent à pleurer. :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efaites ces phrases au passé composé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Elle se fâche à l’éc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s’est fachée à l’éc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Ils se blessent au mat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s se sont blessés au mat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 Nous nous brossons les cheveu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us nous sommes brossé les cheveu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Elle mange une pom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a mangé une pom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 La mère se maquil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mère s’est maquillée. 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efaites ces phrases au passé composé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.  Ils s’endorme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ls se sont endormi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.  Elles s’écrivent des lettr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lles se sont écrit des lettr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.  Elle s’admire dans la gla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lle s’est admirée dans la gla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.  Ils se téléphone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ls se sont téléphon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.  Elle se souvient de la fêt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lle s’est souvenue de la fêt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.  Elles se mettent à pleure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lles se sont mises à pleurer. :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5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56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6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66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7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76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81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y 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o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sages des verbes pronominau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Réfléchi (reflexive)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ne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ave.  She wash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er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 (She gets washe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ave les mains. She washes her (own) ha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rosse. He brush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im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rosse les cheveux.  He brushes his ha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habillent.  They dre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hemselv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(They get dresse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èvent.  They get up.  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Les pronoms réfléchi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je) me (m’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nous) n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u) te (t’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vous) v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il) se (s’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ils) se (s’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elle) se (s’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elles) se (s’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épare pour l’école. I prepare myself for school.  (I get ready…)      :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mon Reflexive Verb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572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amuser to have fu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appeler  to be call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arrêter  to sto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asseoir to si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blesser to get hur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brosser les de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coucher to go to b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excuser  to apologiz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dépêcher  to hurr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déshabiller to get undress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endormir  to fall aslee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ennuyer  to get bo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fâcher to get ang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habiller  to get dress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laver  to get wash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lever  to get u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maquiller to put on make-u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marier (avec)  to get marri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peigner  to comb one’s hai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promener  to take a walk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rappeler  to remember, recal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raser  to shave oneself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reposer  to r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réveiller  to wake u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taire  to be qui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trouver to be located :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onnez le pronom réfléchi convenabl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Il ___ réveil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Nous ___ promen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 Vous ___ leve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Je ___ t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 Tu ___ prép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  Elles __ invit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 Elle __bles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.  Le père ___ couch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.  Ma soeur et moi ___ endorm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.  Jean-Marc et toi ___ ennuyez.  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Réciproque (reciprocal)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ch o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ur les verbes réciproques le sujet </a:t>
            </a: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doit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être 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o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no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écrivons tous les été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rite to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ach o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ry summ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s fil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éléphonent après l’éco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irls phone each other after school.  :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ote que quelquefois deux traductions sont possibles.  Il est la </a:t>
            </a:r>
            <a:r>
              <a:rPr b="0" lang="fr-FR" sz="2800" spc="-1" strike="noStrike" u="sng">
                <a:solidFill>
                  <a:srgbClr val="ffffff"/>
                </a:solidFill>
                <a:uFillTx/>
                <a:latin typeface="Tahoma"/>
              </a:rPr>
              <a:t>situation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qui détermine la meilleure traduc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admir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dmi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mselv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flex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dmi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ch o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ciproc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invit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invi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mselv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flex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invi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ch o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ciproc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 :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Idiomat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Quelques expressions verbales utilisent le pronom “se” même si le sens n’est ni soi-même ni nous-mê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 faut apprendre ces verbes comme de nouveau vocabula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 rendre 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aller = to 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 mettre 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mmencer = to beg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 souvenir 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to re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 moquer 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to make fun of  :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5:49:19Z</dcterms:created>
  <dc:creator>Hugh</dc:creator>
  <dc:description/>
  <dc:language>en-US</dc:language>
  <cp:lastModifiedBy>Lauren Mooney</cp:lastModifiedBy>
  <dcterms:modified xsi:type="dcterms:W3CDTF">2009-09-18T15:14:48Z</dcterms:modified>
  <cp:revision>95</cp:revision>
  <dc:subject/>
  <dc:title>Les Verbes Pronominaux</dc:title>
</cp:coreProperties>
</file>